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009-8EDB-494C-AD92-FA96FCD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6F9-D3B3-4F96-9BD0-4553ECD6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9D7-15F4-4FB8-88EF-98800F80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3FD-7F8A-4E2F-A2C2-3EDD81D3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926-7CBF-4B89-9FCD-7056CB7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1EA-2661-432F-B734-9BBAA5B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8F7-7046-4224-9498-3C4A23D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580-B8C8-4014-A281-1AD120C1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681-314E-479C-9347-EBC903D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4FE-1984-4B34-A62E-AFE20E1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CC3-459B-4FA6-9F53-228D5C7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14A-E8C7-4919-AA45-70C9D33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248-D3C2-4674-AD40-BAADF1D2414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040" y="2052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Réseaux de Soins</a:t>
            </a:r>
            <a:br>
              <a:rPr sz="4800"/>
            </a:b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et Information Médicale</a:t>
            </a:r>
            <a:br>
              <a:rPr sz="4800"/>
            </a:b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en PAC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03440" y="5256360"/>
            <a:ext cx="264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r Bernard GIUS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D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Hôpital d’Enfants de la Tim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Marsei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2400" y="64944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Trebuchet MS"/>
              </a:rPr>
              <a:t>Le point s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Circulaire du 25 novembre 1999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tinée aux ARH et aux URC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soutenir les réseaux,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même avant qu’ils soient entrés dans le cadre réglement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hier des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nd d ’Aide à la Qualité des Soins de 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Cahier des char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du réseau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thologie, population, projet de soins com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uverture territor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ôle et engagement des a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raduation des niveaux de 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oyens organisationnels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ordination, continuité des soins, harmonisation des pratiques, dossier com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lace des us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odalités d'é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Évaluation et accrédi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s 6 dimensions de l'ANA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réseau atteint-il ses objectifs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lle est la qualité des processus mis en œuvre et des résultats atteints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personnes prises en charges sont-elles satisfaites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l est l’apport spécifique de l’organisation en réseau dans le degré d’atteinte des objectifs, la qualité des processus et les résultats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ls sont les coûts engendrés par le réseau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ls sont les effets indirects, positifs et négatifs, induits par le réseau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Finan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c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ARH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dotation budgét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URCAM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subvention,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d d’Aide à la Qualité des Soins de Ville (PACA 25 M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isses locales : sub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llectivité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v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dations : subvention ou 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boratoires : sub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5320" y="358560"/>
            <a:ext cx="78487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Appel à projets "e-s@nté 2000"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(porteur public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6800" y="1025640"/>
            <a:ext cx="743400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sultats de l’appel à projets : 104 projets reçus, 35 reten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 PACA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ACADI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U Ni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ncérologie PACA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P-HM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MS et WAP &amp; réseau ville hôpital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 Hyère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 diabetologi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 d'AIX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IR ME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U Ni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rdiotel PACA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ondation Hôpital Saint Jose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seau de Soins CardioVasculaire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 Aubag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5320" y="4152960"/>
            <a:ext cx="730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FAQSV PACA 2000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(porteur libér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6800" y="4794120"/>
            <a:ext cx="74340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us de 50 projets reçus, une quinzaine (?) retenus = 25 M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TOPI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iabèt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SOP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rnet de Santé électronique de l"Enfan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H="1" flipV="1">
            <a:off x="6362640" y="5695560"/>
            <a:ext cx="723600" cy="7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02280" y="3247920"/>
            <a:ext cx="3040200" cy="476280"/>
            <a:chOff x="6002280" y="3247920"/>
            <a:chExt cx="3040200" cy="476280"/>
          </a:xfrm>
        </p:grpSpPr>
        <p:sp>
          <p:nvSpPr>
            <p:cNvPr id="79" name=""/>
            <p:cNvSpPr/>
            <p:nvPr/>
          </p:nvSpPr>
          <p:spPr>
            <a:xfrm>
              <a:off x="6130800" y="3276360"/>
              <a:ext cx="2772000" cy="447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02280" y="3247920"/>
              <a:ext cx="30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Bookman"/>
                </a:rPr>
                <a:t>Expériment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029040" y="1603440"/>
            <a:ext cx="2894040" cy="1984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0760" y="2716200"/>
            <a:ext cx="2859120" cy="490680"/>
          </a:xfrm>
          <a:prstGeom prst="line">
            <a:avLst/>
          </a:prstGeom>
          <a:ln w="190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379680" y="2471760"/>
            <a:ext cx="1069920" cy="2471760"/>
          </a:xfrm>
          <a:prstGeom prst="line">
            <a:avLst/>
          </a:prstGeom>
          <a:ln w="190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7920" y="2484360"/>
            <a:ext cx="317520" cy="2698920"/>
          </a:xfrm>
          <a:prstGeom prst="line">
            <a:avLst/>
          </a:prstGeom>
          <a:ln w="190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8480" y="2563920"/>
            <a:ext cx="2122560" cy="282888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95600" y="2482920"/>
            <a:ext cx="2690640" cy="1697040"/>
          </a:xfrm>
          <a:prstGeom prst="line">
            <a:avLst/>
          </a:prstGeom>
          <a:ln w="190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55840" y="519120"/>
            <a:ext cx="63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9900"/>
                </a:solidFill>
                <a:latin typeface="Bookman"/>
              </a:rPr>
              <a:t>L’avenir proche ?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1558800"/>
            <a:ext cx="2894040" cy="195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1616040"/>
            <a:ext cx="265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Bookman"/>
              </a:rPr>
              <a:t>Instance régionale d’agré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4229280"/>
            <a:ext cx="2765520" cy="880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80" y="4248000"/>
            <a:ext cx="27349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6600"/>
                </a:solidFill>
                <a:latin typeface="Bookman"/>
              </a:rPr>
              <a:t>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6600"/>
                </a:solidFill>
                <a:latin typeface="Bookman"/>
              </a:rPr>
              <a:t>d’établiss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89240" y="4994280"/>
            <a:ext cx="2441520" cy="8809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8360" y="5059440"/>
            <a:ext cx="24177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9900"/>
                </a:solidFill>
                <a:latin typeface="Bookman"/>
              </a:rPr>
              <a:t>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9900"/>
                </a:solidFill>
                <a:latin typeface="Bookman"/>
              </a:rPr>
              <a:t>Hôpital - v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48080" y="5167440"/>
            <a:ext cx="2414520" cy="8809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0400" y="5181480"/>
            <a:ext cx="23907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00"/>
                </a:solidFill>
                <a:latin typeface="Bookman"/>
              </a:rPr>
              <a:t>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00"/>
                </a:solidFill>
                <a:latin typeface="Bookman"/>
              </a:rPr>
              <a:t>Ville - hô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19880" y="5407200"/>
            <a:ext cx="1927080" cy="88092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48320" y="5421240"/>
            <a:ext cx="1908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"/>
              </a:rPr>
              <a:t>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"/>
              </a:rPr>
              <a:t>Ville-v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5560" y="3408480"/>
            <a:ext cx="23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Bookman"/>
              </a:rPr>
              <a:t>Agrément et budget AR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8280" y="390852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66"/>
                </a:solidFill>
                <a:latin typeface="Bookman"/>
              </a:rPr>
              <a:t>Agrément URCAM et budget FAQ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5760" y="6423120"/>
            <a:ext cx="108288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035920" y="3710160"/>
            <a:ext cx="0" cy="2366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092240" y="5149800"/>
            <a:ext cx="0" cy="946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97200" y="587520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3840" y="6423120"/>
            <a:ext cx="18619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412640" y="6423120"/>
            <a:ext cx="3477960" cy="61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99200" y="2054160"/>
            <a:ext cx="294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Bookman"/>
              </a:rPr>
              <a:t>Agrément Soubie décentral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33160" y="5771160"/>
            <a:ext cx="684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092240" y="5695560"/>
            <a:ext cx="722880" cy="7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800440" y="5695560"/>
            <a:ext cx="722880" cy="7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495680" y="5676480"/>
            <a:ext cx="723600" cy="7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 rot="16200000">
            <a:off x="7314480" y="5695920"/>
            <a:ext cx="72288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LOGOM" descr=""/>
          <p:cNvPicPr/>
          <p:nvPr/>
        </p:nvPicPr>
        <p:blipFill>
          <a:blip r:embed="rId1"/>
          <a:stretch/>
        </p:blipFill>
        <p:spPr>
          <a:xfrm>
            <a:off x="0" y="5996160"/>
            <a:ext cx="725400" cy="861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745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Times New Roman"/>
              </a:rPr>
              <a:t>Diapositive empruntée à P. Larc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1360" y="297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Le système d'infor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sécurité      disponibilité      inter-opérabil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eux types d'informations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onnées médicales relatives aux pat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ntinuité des soins                                                   =&gt;  nomina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, épidémiologie, évaluation médicale        =&gt; anonymes ou chaîn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aissances, informations logistiques et géné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ordination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harmonisation des pratique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formation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évaluation du résea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iffus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nnuaire, agenda, actualités, protocoles, recommandations, documentation, références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mmunic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ossier commun, messagerie, forum, télé-présence, télé-expertise, visio-conférence,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9520" y="1474920"/>
            <a:ext cx="1460520" cy="507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09880" y="1474920"/>
            <a:ext cx="2125800" cy="522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75160" y="1474920"/>
            <a:ext cx="2727360" cy="522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61560"/>
            <a:ext cx="7746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 système d'information :         </a:t>
            </a: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SECU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2449080"/>
            <a:ext cx="7081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fidentialité + intégrité des in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ranet déd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thentification : CPS, Vi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hiff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tection contre les intrusions, les vi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auvega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61560"/>
            <a:ext cx="7746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 système d'information :        </a:t>
            </a: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DISPONIBIL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0560" y="2227320"/>
            <a:ext cx="752472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rgonomie +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jectifs raisonn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valuation = produit du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spect des systèmes d'information des ac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finition des procédures d'utilisation des outils de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991040" y="4800600"/>
            <a:ext cx="554040" cy="476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8200" y="4240080"/>
            <a:ext cx="1330200" cy="965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8120" y="4919760"/>
            <a:ext cx="91800" cy="777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9960" y="1617840"/>
            <a:ext cx="1357200" cy="952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76840" y="2933640"/>
            <a:ext cx="703080" cy="966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11360" y="2940120"/>
            <a:ext cx="1332000" cy="939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065400"/>
            <a:ext cx="522000" cy="300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17680" y="2382840"/>
            <a:ext cx="509760" cy="312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4760" y="1738440"/>
            <a:ext cx="523800" cy="3124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48040" y="1735200"/>
            <a:ext cx="534960" cy="312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5480" y="544320"/>
            <a:ext cx="816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 système d'information :  </a:t>
            </a: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INTER-OPERABIL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49280" y="1614600"/>
            <a:ext cx="6756120" cy="3747240"/>
            <a:chOff x="1349280" y="1614600"/>
            <a:chExt cx="6756120" cy="3747240"/>
          </a:xfrm>
        </p:grpSpPr>
        <p:grpSp>
          <p:nvGrpSpPr>
            <p:cNvPr id="135" name=""/>
            <p:cNvGrpSpPr/>
            <p:nvPr/>
          </p:nvGrpSpPr>
          <p:grpSpPr>
            <a:xfrm>
              <a:off x="1349280" y="1614600"/>
              <a:ext cx="2900880" cy="1121400"/>
              <a:chOff x="1349280" y="1614600"/>
              <a:chExt cx="2900880" cy="1121400"/>
            </a:xfrm>
          </p:grpSpPr>
          <p:sp>
            <p:nvSpPr>
              <p:cNvPr id="136" name=""/>
              <p:cNvSpPr/>
              <p:nvPr/>
            </p:nvSpPr>
            <p:spPr>
              <a:xfrm>
                <a:off x="1555200" y="1743480"/>
                <a:ext cx="529920" cy="3196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54920" y="18046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35920" y="19407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4080" y="19000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23200" y="2295000"/>
                <a:ext cx="8028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78160" y="17910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58480" y="1750320"/>
                <a:ext cx="530640" cy="3196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2040" y="18928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39280" y="19342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1600" y="17982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09760" y="2389320"/>
                <a:ext cx="529920" cy="3196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28200" y="2430000"/>
                <a:ext cx="8100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08920" y="25866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46360" y="24444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54360" y="1621800"/>
                <a:ext cx="1341000" cy="9514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64800" y="21585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20240" y="198864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63800" y="2130840"/>
                <a:ext cx="8028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00320" y="21722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13000" y="2036160"/>
                <a:ext cx="8028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26560" y="23965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20920" y="1614600"/>
                <a:ext cx="710640" cy="9795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32400" y="17982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7720" y="21787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349280" y="241632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67720" y="24577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48440" y="26139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85880" y="24714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17120" y="2178720"/>
                <a:ext cx="561960" cy="4690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08920" y="19134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16240" y="21722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900880" y="2927520"/>
              <a:ext cx="2900880" cy="1121400"/>
              <a:chOff x="2900880" y="2927520"/>
              <a:chExt cx="2900880" cy="1121400"/>
            </a:xfrm>
          </p:grpSpPr>
          <p:sp>
            <p:nvSpPr>
              <p:cNvPr id="168" name=""/>
              <p:cNvSpPr/>
              <p:nvPr/>
            </p:nvSpPr>
            <p:spPr>
              <a:xfrm>
                <a:off x="3106800" y="305640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06520" y="31176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87520" y="32536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05680" y="32130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74800" y="3607920"/>
                <a:ext cx="8028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29760" y="31039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10080" y="3063240"/>
                <a:ext cx="530640" cy="3196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53640" y="32058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90880" y="32472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03200" y="31111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61360" y="370224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79800" y="3742920"/>
                <a:ext cx="8100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60520" y="38995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97960" y="37573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05960" y="2934720"/>
                <a:ext cx="1341000" cy="9514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16400" y="34718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71840" y="330156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15400" y="3443760"/>
                <a:ext cx="8028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51920" y="34851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64600" y="3349080"/>
                <a:ext cx="8028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78160" y="37094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72520" y="2927520"/>
                <a:ext cx="710640" cy="97956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84000" y="31111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09320" y="34916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00880" y="372924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19320" y="37710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00040" y="39268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37480" y="37843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720" y="3491640"/>
                <a:ext cx="561960" cy="4690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60520" y="32263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67840" y="34851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715280" y="4240440"/>
              <a:ext cx="2900880" cy="1121400"/>
              <a:chOff x="4715280" y="4240440"/>
              <a:chExt cx="2900880" cy="1121400"/>
            </a:xfrm>
          </p:grpSpPr>
          <p:sp>
            <p:nvSpPr>
              <p:cNvPr id="200" name=""/>
              <p:cNvSpPr/>
              <p:nvPr/>
            </p:nvSpPr>
            <p:spPr>
              <a:xfrm>
                <a:off x="4921200" y="436932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20920" y="44305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01920" y="45666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20080" y="45259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89200" y="4920840"/>
                <a:ext cx="80280" cy="882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4160" y="44168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24480" y="4376160"/>
                <a:ext cx="53064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68040" y="45187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05280" y="45601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17600" y="44240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5760" y="501516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94200" y="5055840"/>
                <a:ext cx="8100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4920" y="52124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2360" y="50702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20720" y="4247640"/>
                <a:ext cx="1340640" cy="9514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30800" y="47847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86240" y="461448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29800" y="4756680"/>
                <a:ext cx="80280" cy="889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66320" y="47980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79000" y="4662000"/>
                <a:ext cx="8028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92560" y="50223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86920" y="4240440"/>
                <a:ext cx="710640" cy="9795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98400" y="44240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23720" y="480456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5280" y="5042160"/>
                <a:ext cx="529920" cy="319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33720" y="508392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14440" y="523980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1880" y="50972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83120" y="4804560"/>
                <a:ext cx="561960" cy="4694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74920" y="453924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82240" y="4798080"/>
                <a:ext cx="81000" cy="8820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31760" y="1948680"/>
              <a:ext cx="347364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 réseau, plusieurs établisse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8320" y="3142440"/>
              <a:ext cx="1802520" cy="63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 établissement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lusieurs résea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91000" y="4634280"/>
              <a:ext cx="2590200" cy="63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 professionnel de soins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lusieurs résea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922320" y="594684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ystèmes communicants   =&gt;   normes et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Réseau de 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nté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4720" y="1907640"/>
            <a:ext cx="7145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semble organisé de plusieurs personnes physiques ou morales, dites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cteurs du réseau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dispersées dans une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zone territorial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onnée, de compétences différentes et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mplémentair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qui agissent pour un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bjectif commu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 selon  des normes et des valeurs partagées, sur la base d'une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opération volontai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pour améliorer la prise en charge d'une communauté de mal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98400" y="97452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nges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malisés,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ganisés et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curisés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'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formations de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té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400" y="2728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rojet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88960" y="2100240"/>
            <a:ext cx="66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ablissement des normes et standard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ernet/intr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écurité : chiffrement, authen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ormat d'enveloppe : XMF (GT11 d'Edi-Sant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Cegetel, France Telecom, et plus de 30 industri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mes XML, ENV13606 (européen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til : serveur de messages médicaux pour les 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utualisation des dévelop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gressivité de la montée e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09640" y="906480"/>
            <a:ext cx="7632720" cy="5557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79360" y="947880"/>
            <a:ext cx="6952680" cy="5427000"/>
            <a:chOff x="1179360" y="947880"/>
            <a:chExt cx="6952680" cy="5427000"/>
          </a:xfrm>
        </p:grpSpPr>
        <p:sp>
          <p:nvSpPr>
            <p:cNvPr id="240" name=""/>
            <p:cNvSpPr/>
            <p:nvPr/>
          </p:nvSpPr>
          <p:spPr>
            <a:xfrm>
              <a:off x="6549120" y="4903560"/>
              <a:ext cx="921600" cy="61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9120" y="4174200"/>
              <a:ext cx="1379160" cy="674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0120" y="3362040"/>
              <a:ext cx="2110320" cy="674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20120" y="1188000"/>
              <a:ext cx="1650960" cy="2133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6480" y="4353120"/>
              <a:ext cx="1059120" cy="136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16480" y="1173960"/>
              <a:ext cx="1059120" cy="3096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1160" y="4353120"/>
              <a:ext cx="3137040" cy="136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81160" y="1173960"/>
              <a:ext cx="3137040" cy="3096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7800" y="1378440"/>
              <a:ext cx="1011240" cy="176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4480" y="3676680"/>
              <a:ext cx="648000" cy="34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ableau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 bor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22040" y="2087280"/>
              <a:ext cx="771840" cy="2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xploi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18120" y="1496160"/>
              <a:ext cx="773640" cy="19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x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1913040"/>
              <a:ext cx="76140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s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 accè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24240" y="2491200"/>
              <a:ext cx="761400" cy="534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s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u doss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rtagé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705120" y="227808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704760" y="1700640"/>
              <a:ext cx="0" cy="20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142360" y="1721160"/>
              <a:ext cx="671040" cy="1362240"/>
              <a:chOff x="2142360" y="1721160"/>
              <a:chExt cx="671040" cy="1362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2148120" y="1721160"/>
                <a:ext cx="657000" cy="350640"/>
                <a:chOff x="2148120" y="1721160"/>
                <a:chExt cx="657000" cy="350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155320" y="1721160"/>
                  <a:ext cx="649800" cy="350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48120" y="1853640"/>
                  <a:ext cx="647640" cy="19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trace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142360" y="2118240"/>
                <a:ext cx="671040" cy="495360"/>
                <a:chOff x="2142360" y="2118240"/>
                <a:chExt cx="671040" cy="495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142360" y="2118240"/>
                  <a:ext cx="659880" cy="495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155320" y="2243160"/>
                  <a:ext cx="6580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ssoc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pat/med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143440" y="2660400"/>
                <a:ext cx="667800" cy="423000"/>
                <a:chOff x="2143440" y="2660400"/>
                <a:chExt cx="667800" cy="4230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151000" y="2660400"/>
                  <a:ext cx="660240" cy="423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43440" y="2819880"/>
                  <a:ext cx="658080" cy="23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nnuair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249560" y="3124800"/>
              <a:ext cx="804600" cy="525960"/>
              <a:chOff x="1249560" y="3124800"/>
              <a:chExt cx="804600" cy="525960"/>
            </a:xfrm>
          </p:grpSpPr>
          <p:sp>
            <p:nvSpPr>
              <p:cNvPr id="267" name=""/>
              <p:cNvSpPr/>
              <p:nvPr/>
            </p:nvSpPr>
            <p:spPr>
              <a:xfrm>
                <a:off x="1249560" y="3124800"/>
                <a:ext cx="804600" cy="5259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34520" y="3280680"/>
                <a:ext cx="6580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ossi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partagé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429600" y="1305000"/>
              <a:ext cx="722160" cy="536760"/>
              <a:chOff x="6429600" y="1305000"/>
              <a:chExt cx="722160" cy="536760"/>
            </a:xfrm>
          </p:grpSpPr>
          <p:sp>
            <p:nvSpPr>
              <p:cNvPr id="270" name=""/>
              <p:cNvSpPr/>
              <p:nvPr/>
            </p:nvSpPr>
            <p:spPr>
              <a:xfrm>
                <a:off x="6429600" y="1305000"/>
                <a:ext cx="722160" cy="5367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73520" y="1471320"/>
                <a:ext cx="6480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tatistiqu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évaluat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746040" y="4938480"/>
              <a:ext cx="518400" cy="552240"/>
              <a:chOff x="6746040" y="4938480"/>
              <a:chExt cx="518400" cy="5522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746040" y="4938480"/>
                <a:ext cx="443520" cy="391680"/>
                <a:chOff x="6746040" y="4938480"/>
                <a:chExt cx="443520" cy="391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746040" y="5242320"/>
                  <a:ext cx="374040" cy="87840"/>
                </a:xfrm>
                <a:prstGeom prst="parallelogram">
                  <a:avLst>
                    <a:gd name="adj" fmla="val 106455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59080" y="4938480"/>
                  <a:ext cx="330480" cy="280080"/>
                </a:xfrm>
                <a:prstGeom prst="cube">
                  <a:avLst>
                    <a:gd name="adj" fmla="val 192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885000" y="5018400"/>
                  <a:ext cx="208440" cy="176040"/>
                </a:xfrm>
                <a:prstGeom prst="roundRect">
                  <a:avLst>
                    <a:gd name="adj" fmla="val 3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6781680" y="5338080"/>
                <a:ext cx="48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public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595920" y="5657760"/>
              <a:ext cx="781920" cy="717120"/>
              <a:chOff x="6595920" y="5657760"/>
              <a:chExt cx="781920" cy="717120"/>
            </a:xfrm>
          </p:grpSpPr>
          <p:sp>
            <p:nvSpPr>
              <p:cNvPr id="279" name=""/>
              <p:cNvSpPr/>
              <p:nvPr/>
            </p:nvSpPr>
            <p:spPr>
              <a:xfrm>
                <a:off x="6818040" y="5657760"/>
                <a:ext cx="309240" cy="361080"/>
              </a:xfrm>
              <a:prstGeom prst="flowChartMultidocumen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95920" y="6046920"/>
                <a:ext cx="78192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acteur n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informatisé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957640" y="2561760"/>
              <a:ext cx="1407960" cy="778320"/>
              <a:chOff x="5957640" y="2561760"/>
              <a:chExt cx="1407960" cy="77832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6758280" y="2605680"/>
                <a:ext cx="443520" cy="391680"/>
                <a:chOff x="6758280" y="2605680"/>
                <a:chExt cx="443520" cy="391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58280" y="2909520"/>
                  <a:ext cx="374040" cy="87840"/>
                </a:xfrm>
                <a:prstGeom prst="parallelogram">
                  <a:avLst>
                    <a:gd name="adj" fmla="val 10645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871320" y="2605680"/>
                  <a:ext cx="330480" cy="280080"/>
                </a:xfrm>
                <a:prstGeom prst="cube">
                  <a:avLst>
                    <a:gd name="adj" fmla="val 192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897240" y="2685600"/>
                  <a:ext cx="208440" cy="176040"/>
                </a:xfrm>
                <a:prstGeom prst="roundRect">
                  <a:avLst>
                    <a:gd name="adj" fmla="val 3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5957640" y="2561760"/>
                <a:ext cx="606600" cy="493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ég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"coordin."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93760" y="3043080"/>
                <a:ext cx="77184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coordinateur + CP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67840" y="2787480"/>
                <a:ext cx="29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6594480" y="3862440"/>
              <a:ext cx="77184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teur + CP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642320" y="1573200"/>
              <a:ext cx="1692000" cy="1541160"/>
              <a:chOff x="1642320" y="1573200"/>
              <a:chExt cx="1692000" cy="1541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642320" y="1573200"/>
                <a:ext cx="0" cy="154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42320" y="1573200"/>
                <a:ext cx="169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091040" y="1586880"/>
              <a:ext cx="2325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1600" y="1903320"/>
              <a:ext cx="509040" cy="1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811600" y="2123280"/>
              <a:ext cx="509040" cy="24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811600" y="2274840"/>
              <a:ext cx="522720" cy="56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054880" y="2962800"/>
              <a:ext cx="125172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7920" y="3678480"/>
              <a:ext cx="446760" cy="17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1840" y="1834560"/>
              <a:ext cx="0" cy="23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01840" y="2302560"/>
              <a:ext cx="178560" cy="27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38840" y="4605480"/>
              <a:ext cx="2796120" cy="959400"/>
              <a:chOff x="1338840" y="4605480"/>
              <a:chExt cx="2796120" cy="959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837520" y="4605480"/>
                <a:ext cx="1297440" cy="959400"/>
                <a:chOff x="2837520" y="4605480"/>
                <a:chExt cx="1297440" cy="9594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37520" y="4605480"/>
                  <a:ext cx="771840" cy="348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dminis-tr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37520" y="4958280"/>
                  <a:ext cx="771840" cy="606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serveu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611160" y="4605480"/>
                  <a:ext cx="523800" cy="9576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ltrag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ccè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338840" y="4748400"/>
                <a:ext cx="815400" cy="522000"/>
                <a:chOff x="1338840" y="4748400"/>
                <a:chExt cx="815400" cy="522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338840" y="4748400"/>
                  <a:ext cx="805320" cy="522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51440" y="4935240"/>
                  <a:ext cx="80280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ocument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site 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37320" y="5109840"/>
                <a:ext cx="701640" cy="20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51000" y="4765680"/>
                <a:ext cx="673920" cy="17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7269480" y="2804760"/>
              <a:ext cx="763560" cy="1596240"/>
              <a:chOff x="7269480" y="2804760"/>
              <a:chExt cx="763560" cy="159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8033040" y="2811600"/>
                <a:ext cx="0" cy="158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7905600" y="4390560"/>
                <a:ext cx="10368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69480" y="2804760"/>
                <a:ext cx="750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090200" y="2687760"/>
              <a:ext cx="1041840" cy="3096360"/>
              <a:chOff x="7090200" y="2687760"/>
              <a:chExt cx="1041840" cy="3096360"/>
            </a:xfrm>
          </p:grpSpPr>
          <p:sp>
            <p:nvSpPr>
              <p:cNvPr id="316" name=""/>
              <p:cNvSpPr/>
              <p:nvPr/>
            </p:nvSpPr>
            <p:spPr>
              <a:xfrm>
                <a:off x="8132040" y="2687760"/>
                <a:ext cx="0" cy="309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090200" y="5777280"/>
                <a:ext cx="102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268760" y="2687760"/>
                <a:ext cx="86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159800" y="2914920"/>
              <a:ext cx="1769040" cy="1899000"/>
              <a:chOff x="4159800" y="2914920"/>
              <a:chExt cx="1769040" cy="189900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4159800" y="4806360"/>
                <a:ext cx="154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01320" y="2914920"/>
                <a:ext cx="22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01320" y="2914920"/>
                <a:ext cx="0" cy="18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50800" y="3763080"/>
              <a:ext cx="1770120" cy="1229760"/>
              <a:chOff x="4150800" y="3763080"/>
              <a:chExt cx="1770120" cy="12297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4150800" y="4987440"/>
                <a:ext cx="144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593680" y="3763080"/>
                <a:ext cx="3272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3680" y="3768120"/>
                <a:ext cx="0" cy="122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132080" y="4435560"/>
              <a:ext cx="2692080" cy="722160"/>
              <a:chOff x="4132080" y="4435560"/>
              <a:chExt cx="2692080" cy="72216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4132080" y="5154480"/>
                <a:ext cx="191988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52320" y="4435560"/>
                <a:ext cx="77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52320" y="4435560"/>
                <a:ext cx="0" cy="72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152600" y="5116680"/>
              <a:ext cx="2693520" cy="247320"/>
              <a:chOff x="4152600" y="5116680"/>
              <a:chExt cx="2693520" cy="2473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4152600" y="5362560"/>
                <a:ext cx="216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26280" y="5116680"/>
                <a:ext cx="51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19800" y="5116680"/>
                <a:ext cx="0" cy="24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502000" y="4022640"/>
              <a:ext cx="330120" cy="1059480"/>
              <a:chOff x="2502000" y="4022640"/>
              <a:chExt cx="330120" cy="105948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2502000" y="5074920"/>
                <a:ext cx="3301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02000" y="4022640"/>
                <a:ext cx="0" cy="105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495160" y="3093840"/>
              <a:ext cx="1365480" cy="1492560"/>
              <a:chOff x="2495160" y="3093840"/>
              <a:chExt cx="1365480" cy="1492560"/>
            </a:xfrm>
          </p:grpSpPr>
          <p:sp>
            <p:nvSpPr>
              <p:cNvPr id="339" name=""/>
              <p:cNvSpPr/>
              <p:nvPr/>
            </p:nvSpPr>
            <p:spPr>
              <a:xfrm>
                <a:off x="3857400" y="3816000"/>
                <a:ext cx="3240" cy="77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95160" y="3093840"/>
                <a:ext cx="1362240" cy="72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173840" y="1978560"/>
              <a:ext cx="1760760" cy="736560"/>
              <a:chOff x="4173840" y="1978560"/>
              <a:chExt cx="1760760" cy="736560"/>
            </a:xfrm>
          </p:grpSpPr>
          <p:sp>
            <p:nvSpPr>
              <p:cNvPr id="342" name=""/>
              <p:cNvSpPr/>
              <p:nvPr/>
            </p:nvSpPr>
            <p:spPr>
              <a:xfrm>
                <a:off x="4173840" y="1978920"/>
                <a:ext cx="151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88720" y="2715120"/>
                <a:ext cx="24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5688720" y="1978560"/>
                <a:ext cx="0" cy="73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105080" y="2165040"/>
              <a:ext cx="1814760" cy="1375920"/>
              <a:chOff x="4105080" y="2165040"/>
              <a:chExt cx="1814760" cy="1375920"/>
            </a:xfrm>
          </p:grpSpPr>
          <p:sp>
            <p:nvSpPr>
              <p:cNvPr id="346" name=""/>
              <p:cNvSpPr/>
              <p:nvPr/>
            </p:nvSpPr>
            <p:spPr>
              <a:xfrm>
                <a:off x="4105080" y="2165040"/>
                <a:ext cx="147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79640" y="3540960"/>
                <a:ext cx="340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579640" y="2165040"/>
                <a:ext cx="0" cy="137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595400" y="1275120"/>
              <a:ext cx="648000" cy="285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34880" y="4206600"/>
              <a:ext cx="2849400" cy="21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08880" y="947880"/>
              <a:ext cx="191232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moyens et services sécurisé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160" y="947880"/>
              <a:ext cx="104544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intranet sécurisé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7480" y="961560"/>
              <a:ext cx="7153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utilisateu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9880" y="5691960"/>
              <a:ext cx="104544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79360" y="5691960"/>
              <a:ext cx="262764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données non nominativ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5720" y="1133640"/>
              <a:ext cx="1912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rveur de données médic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937120" y="3408120"/>
              <a:ext cx="1949040" cy="493200"/>
              <a:chOff x="5937120" y="3408120"/>
              <a:chExt cx="1949040" cy="493200"/>
            </a:xfrm>
          </p:grpSpPr>
          <p:sp>
            <p:nvSpPr>
              <p:cNvPr id="358" name=""/>
              <p:cNvSpPr/>
              <p:nvPr/>
            </p:nvSpPr>
            <p:spPr>
              <a:xfrm>
                <a:off x="5937120" y="3408120"/>
                <a:ext cx="606600" cy="493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ég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"acteur"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758280" y="3452040"/>
                <a:ext cx="443520" cy="391680"/>
                <a:chOff x="6758280" y="3452040"/>
                <a:chExt cx="443520" cy="3916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758280" y="3755880"/>
                  <a:ext cx="374040" cy="87840"/>
                </a:xfrm>
                <a:prstGeom prst="parallelogram">
                  <a:avLst>
                    <a:gd name="adj" fmla="val 10645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71320" y="3452040"/>
                  <a:ext cx="330480" cy="280080"/>
                </a:xfrm>
                <a:prstGeom prst="cube">
                  <a:avLst>
                    <a:gd name="adj" fmla="val 192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97240" y="3531960"/>
                  <a:ext cx="208440" cy="176040"/>
                </a:xfrm>
                <a:prstGeom prst="roundRect">
                  <a:avLst>
                    <a:gd name="adj" fmla="val 3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 flipV="1">
                <a:off x="6551280" y="3632040"/>
                <a:ext cx="3060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389720" y="3414240"/>
                <a:ext cx="496440" cy="405720"/>
                <a:chOff x="7389720" y="3414240"/>
                <a:chExt cx="496440" cy="405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389720" y="3414240"/>
                  <a:ext cx="488160" cy="405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392960" y="3501360"/>
                  <a:ext cx="493200" cy="2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ossie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"local"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 flipV="1">
                <a:off x="7176600" y="3628440"/>
                <a:ext cx="216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740280" y="4219560"/>
              <a:ext cx="1149120" cy="610560"/>
              <a:chOff x="6740280" y="4219560"/>
              <a:chExt cx="1149120" cy="6105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6740280" y="4277880"/>
                <a:ext cx="482760" cy="552240"/>
                <a:chOff x="6740280" y="4277880"/>
                <a:chExt cx="482760" cy="55224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6745680" y="4277880"/>
                  <a:ext cx="443520" cy="391680"/>
                  <a:chOff x="6745680" y="4277880"/>
                  <a:chExt cx="443520" cy="391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6745680" y="4581720"/>
                    <a:ext cx="374040" cy="87840"/>
                  </a:xfrm>
                  <a:prstGeom prst="parallelogram">
                    <a:avLst>
                      <a:gd name="adj" fmla="val 106455"/>
                    </a:avLst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858720" y="4277880"/>
                    <a:ext cx="330480" cy="280080"/>
                  </a:xfrm>
                  <a:prstGeom prst="cube">
                    <a:avLst>
                      <a:gd name="adj" fmla="val 19236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884640" y="4357800"/>
                    <a:ext cx="208440" cy="176040"/>
                  </a:xfrm>
                  <a:prstGeom prst="roundRect">
                    <a:avLst>
                      <a:gd name="adj" fmla="val 36667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6740280" y="4677480"/>
                  <a:ext cx="482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Arial"/>
                    </a:rPr>
                    <a:t>acteur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392960" y="4219560"/>
                <a:ext cx="496440" cy="405720"/>
                <a:chOff x="7392960" y="4219560"/>
                <a:chExt cx="496440" cy="4057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392960" y="4219560"/>
                  <a:ext cx="488160" cy="405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396200" y="4306680"/>
                  <a:ext cx="493200" cy="2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ossie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"local"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V="1">
                <a:off x="7179840" y="4433400"/>
                <a:ext cx="216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med"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808920" y="271440"/>
            <a:ext cx="76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rojet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NOSIS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:  architecture du système d'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2994120" y="4295880"/>
            <a:ext cx="5533920" cy="2266920"/>
            <a:chOff x="2994120" y="4295880"/>
            <a:chExt cx="5533920" cy="2266920"/>
          </a:xfrm>
        </p:grpSpPr>
        <p:sp>
          <p:nvSpPr>
            <p:cNvPr id="381" name=""/>
            <p:cNvSpPr/>
            <p:nvPr/>
          </p:nvSpPr>
          <p:spPr>
            <a:xfrm>
              <a:off x="3268800" y="4429080"/>
              <a:ext cx="117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serveur de 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932880" y="4610160"/>
              <a:ext cx="1595160" cy="1917720"/>
              <a:chOff x="6932880" y="4610160"/>
              <a:chExt cx="1595160" cy="1917720"/>
            </a:xfrm>
          </p:grpSpPr>
          <p:sp>
            <p:nvSpPr>
              <p:cNvPr id="383" name=""/>
              <p:cNvSpPr/>
              <p:nvPr/>
            </p:nvSpPr>
            <p:spPr>
              <a:xfrm>
                <a:off x="6932880" y="4610160"/>
                <a:ext cx="1595160" cy="19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69320" y="4835880"/>
                <a:ext cx="1309680" cy="361440"/>
                <a:chOff x="7069320" y="4835880"/>
                <a:chExt cx="1309680" cy="36144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7970040" y="4835880"/>
                  <a:ext cx="408960" cy="361440"/>
                  <a:chOff x="7970040" y="4835880"/>
                  <a:chExt cx="408960" cy="361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7970040" y="5116320"/>
                    <a:ext cx="345240" cy="81000"/>
                  </a:xfrm>
                  <a:prstGeom prst="parallelogram">
                    <a:avLst>
                      <a:gd name="adj" fmla="val 106556"/>
                    </a:avLst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074080" y="4835880"/>
                    <a:ext cx="304920" cy="258480"/>
                  </a:xfrm>
                  <a:prstGeom prst="cube">
                    <a:avLst>
                      <a:gd name="adj" fmla="val 19236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098560" y="4909680"/>
                    <a:ext cx="192600" cy="162360"/>
                  </a:xfrm>
                  <a:prstGeom prst="roundRect">
                    <a:avLst>
                      <a:gd name="adj" fmla="val 3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7069320" y="4861800"/>
                  <a:ext cx="721800" cy="32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simpl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navigateu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794000" y="5003280"/>
                  <a:ext cx="27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med"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69320" y="5433480"/>
                <a:ext cx="1319400" cy="893520"/>
                <a:chOff x="7069320" y="5433480"/>
                <a:chExt cx="1319400" cy="8935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69320" y="5433480"/>
                  <a:ext cx="712080" cy="89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intégrant la norm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7979760" y="5702400"/>
                  <a:ext cx="408960" cy="362160"/>
                  <a:chOff x="7979760" y="5702400"/>
                  <a:chExt cx="408960" cy="362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7979760" y="5983200"/>
                    <a:ext cx="345240" cy="81360"/>
                  </a:xfrm>
                  <a:prstGeom prst="parallelogram">
                    <a:avLst>
                      <a:gd name="adj" fmla="val 106084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083800" y="5702400"/>
                    <a:ext cx="304920" cy="258840"/>
                  </a:xfrm>
                  <a:prstGeom prst="cube">
                    <a:avLst>
                      <a:gd name="adj" fmla="val 19236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108280" y="5776200"/>
                    <a:ext cx="192600" cy="162360"/>
                  </a:xfrm>
                  <a:prstGeom prst="roundRect">
                    <a:avLst>
                      <a:gd name="adj" fmla="val 3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 flipV="1">
                  <a:off x="7788600" y="5868720"/>
                  <a:ext cx="2822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med"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7200360" y="5905800"/>
                  <a:ext cx="457920" cy="374760"/>
                  <a:chOff x="7200360" y="5905800"/>
                  <a:chExt cx="457920" cy="3747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7200360" y="5905800"/>
                    <a:ext cx="450720" cy="3747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203240" y="5986440"/>
                    <a:ext cx="455040" cy="27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ossie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"local"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1" name=""/>
            <p:cNvGrpSpPr/>
            <p:nvPr/>
          </p:nvGrpSpPr>
          <p:grpSpPr>
            <a:xfrm>
              <a:off x="5037480" y="4610160"/>
              <a:ext cx="977760" cy="1952640"/>
              <a:chOff x="5037480" y="4610160"/>
              <a:chExt cx="977760" cy="1952640"/>
            </a:xfrm>
          </p:grpSpPr>
          <p:sp>
            <p:nvSpPr>
              <p:cNvPr id="402" name=""/>
              <p:cNvSpPr/>
              <p:nvPr/>
            </p:nvSpPr>
            <p:spPr>
              <a:xfrm>
                <a:off x="5037480" y="4610160"/>
                <a:ext cx="977760" cy="1952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158080" y="4739760"/>
                <a:ext cx="712440" cy="1673280"/>
                <a:chOff x="5158080" y="4739760"/>
                <a:chExt cx="712440" cy="16732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158080" y="6091200"/>
                  <a:ext cx="712440" cy="32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tableaux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 bord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166000" y="5898240"/>
                  <a:ext cx="704520" cy="19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export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162400" y="5073120"/>
                  <a:ext cx="7027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coor-din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162400" y="5406480"/>
                  <a:ext cx="702720" cy="493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ges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u dossie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partagé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162400" y="4739760"/>
                  <a:ext cx="7027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ges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s accè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2994120" y="4619880"/>
              <a:ext cx="1629000" cy="1933560"/>
              <a:chOff x="2994120" y="4619880"/>
              <a:chExt cx="1629000" cy="1933560"/>
            </a:xfrm>
          </p:grpSpPr>
          <p:sp>
            <p:nvSpPr>
              <p:cNvPr id="410" name=""/>
              <p:cNvSpPr/>
              <p:nvPr/>
            </p:nvSpPr>
            <p:spPr>
              <a:xfrm>
                <a:off x="2994120" y="4619880"/>
                <a:ext cx="1629000" cy="1933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3120840" y="4921200"/>
                <a:ext cx="749880" cy="1307880"/>
                <a:chOff x="3120840" y="4921200"/>
                <a:chExt cx="749880" cy="130788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3121200" y="5905440"/>
                  <a:ext cx="748440" cy="323640"/>
                  <a:chOff x="3121200" y="5905440"/>
                  <a:chExt cx="748440" cy="3236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3121200" y="5905440"/>
                    <a:ext cx="748440" cy="323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122280" y="6027840"/>
                    <a:ext cx="745920" cy="18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races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123720" y="5517360"/>
                  <a:ext cx="742680" cy="485640"/>
                  <a:chOff x="3123720" y="5517360"/>
                  <a:chExt cx="742680" cy="485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123720" y="5517360"/>
                    <a:ext cx="742680" cy="4856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191400" y="5661360"/>
                    <a:ext cx="607680" cy="33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ossie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artagé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3120840" y="5195520"/>
                  <a:ext cx="749880" cy="457200"/>
                  <a:chOff x="3120840" y="5195520"/>
                  <a:chExt cx="749880" cy="457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3120840" y="5195520"/>
                    <a:ext cx="749880" cy="4572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121920" y="5311080"/>
                    <a:ext cx="747360" cy="32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ssoc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at/med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3120840" y="4921200"/>
                  <a:ext cx="749880" cy="390240"/>
                  <a:chOff x="3120840" y="4921200"/>
                  <a:chExt cx="749880" cy="3902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120840" y="4921200"/>
                    <a:ext cx="749880" cy="3902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121560" y="5068440"/>
                    <a:ext cx="747720" cy="21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nuair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3953160" y="5101560"/>
                <a:ext cx="531000" cy="979200"/>
                <a:chOff x="3953160" y="5101560"/>
                <a:chExt cx="531000" cy="9792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172040" y="5101560"/>
                  <a:ext cx="312120" cy="97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Co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n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e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s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XM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53160" y="5101560"/>
                  <a:ext cx="217080" cy="97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4619880" y="5583240"/>
              <a:ext cx="4190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029640" y="5602320"/>
              <a:ext cx="895320" cy="0"/>
              <a:chOff x="6029640" y="5602320"/>
              <a:chExt cx="895320" cy="0"/>
            </a:xfrm>
          </p:grpSpPr>
          <p:sp>
            <p:nvSpPr>
              <p:cNvPr id="429" name=""/>
              <p:cNvSpPr/>
              <p:nvPr/>
            </p:nvSpPr>
            <p:spPr>
              <a:xfrm>
                <a:off x="6029640" y="5602320"/>
                <a:ext cx="8953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86680" y="5602320"/>
                <a:ext cx="41904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107320" y="4295880"/>
              <a:ext cx="83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serveur d'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45640" y="4400640"/>
              <a:ext cx="117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clien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54920" y="5276880"/>
              <a:ext cx="6602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39720" y="1117440"/>
            <a:ext cx="5332320" cy="2820960"/>
            <a:chOff x="639720" y="1117440"/>
            <a:chExt cx="5332320" cy="2820960"/>
          </a:xfrm>
        </p:grpSpPr>
        <p:sp>
          <p:nvSpPr>
            <p:cNvPr id="435" name=""/>
            <p:cNvSpPr/>
            <p:nvPr/>
          </p:nvSpPr>
          <p:spPr>
            <a:xfrm>
              <a:off x="3217680" y="1269720"/>
              <a:ext cx="1962360" cy="100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76440" y="1128600"/>
              <a:ext cx="3495600" cy="2809800"/>
            </a:xfrm>
            <a:prstGeom prst="ellipse">
              <a:avLst/>
            </a:prstGeom>
            <a:noFill/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720" y="1117440"/>
              <a:ext cx="3267000" cy="2038320"/>
            </a:xfrm>
            <a:prstGeom prst="ellipse">
              <a:avLst/>
            </a:prstGeom>
            <a:noFill/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76320" y="1545840"/>
              <a:ext cx="552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Serveu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085760" y="1460160"/>
              <a:ext cx="571320" cy="524160"/>
              <a:chOff x="1085760" y="1460160"/>
              <a:chExt cx="571320" cy="524160"/>
            </a:xfrm>
          </p:grpSpPr>
          <p:sp>
            <p:nvSpPr>
              <p:cNvPr id="440" name=""/>
              <p:cNvSpPr/>
              <p:nvPr/>
            </p:nvSpPr>
            <p:spPr>
              <a:xfrm>
                <a:off x="1085760" y="1460160"/>
                <a:ext cx="552600" cy="50436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123560" y="1584360"/>
                <a:ext cx="53352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dd du réseau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1638360" y="1746000"/>
              <a:ext cx="2379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44600" y="2449440"/>
              <a:ext cx="40824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cteu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562120" y="2393640"/>
              <a:ext cx="422280" cy="343080"/>
              <a:chOff x="2562120" y="2393640"/>
              <a:chExt cx="422280" cy="343080"/>
            </a:xfrm>
          </p:grpSpPr>
          <p:sp>
            <p:nvSpPr>
              <p:cNvPr id="445" name=""/>
              <p:cNvSpPr/>
              <p:nvPr/>
            </p:nvSpPr>
            <p:spPr>
              <a:xfrm>
                <a:off x="2562120" y="2393640"/>
                <a:ext cx="408240" cy="33012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90200" y="2475000"/>
                <a:ext cx="39420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d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970000" y="2581200"/>
              <a:ext cx="17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1520" y="2563560"/>
              <a:ext cx="40824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cteu</a:t>
              </a:r>
              <a:r>
                <a:rPr b="0" lang="fr-FR" sz="1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829040" y="2508120"/>
              <a:ext cx="422280" cy="342720"/>
              <a:chOff x="4829040" y="2508120"/>
              <a:chExt cx="422280" cy="342720"/>
            </a:xfrm>
          </p:grpSpPr>
          <p:sp>
            <p:nvSpPr>
              <p:cNvPr id="450" name=""/>
              <p:cNvSpPr/>
              <p:nvPr/>
            </p:nvSpPr>
            <p:spPr>
              <a:xfrm>
                <a:off x="4829040" y="2508120"/>
                <a:ext cx="408240" cy="32976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57120" y="2589480"/>
                <a:ext cx="394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d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236920" y="2695320"/>
              <a:ext cx="17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92120" y="2582640"/>
              <a:ext cx="40788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cteu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3306600" y="1287360"/>
              <a:ext cx="1830600" cy="963360"/>
              <a:chOff x="3306600" y="1287360"/>
              <a:chExt cx="1830600" cy="963360"/>
            </a:xfrm>
          </p:grpSpPr>
          <p:sp>
            <p:nvSpPr>
              <p:cNvPr id="455" name=""/>
              <p:cNvSpPr/>
              <p:nvPr/>
            </p:nvSpPr>
            <p:spPr>
              <a:xfrm>
                <a:off x="3483720" y="1374120"/>
                <a:ext cx="1410480" cy="78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4320" y="1287360"/>
                <a:ext cx="407880" cy="24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acteu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06600" y="1667880"/>
                <a:ext cx="407880" cy="24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acteu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64320" y="2001240"/>
                <a:ext cx="407880" cy="24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acteu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4715280" y="1564560"/>
                <a:ext cx="421920" cy="343080"/>
                <a:chOff x="4715280" y="1564560"/>
                <a:chExt cx="421920" cy="3430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715280" y="1564560"/>
                  <a:ext cx="407880" cy="330120"/>
                </a:xfrm>
                <a:prstGeom prst="flowChartMagneticDisk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743360" y="1645920"/>
                  <a:ext cx="3938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bdd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4133880" y="3269880"/>
              <a:ext cx="552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Serveu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343320" y="3184200"/>
              <a:ext cx="571320" cy="523800"/>
              <a:chOff x="3343320" y="3184200"/>
              <a:chExt cx="571320" cy="523800"/>
            </a:xfrm>
          </p:grpSpPr>
          <p:sp>
            <p:nvSpPr>
              <p:cNvPr id="464" name=""/>
              <p:cNvSpPr/>
              <p:nvPr/>
            </p:nvSpPr>
            <p:spPr>
              <a:xfrm>
                <a:off x="3343320" y="3184200"/>
                <a:ext cx="552240" cy="50400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81120" y="3308400"/>
                <a:ext cx="53352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dd du réseau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3895560" y="3470040"/>
              <a:ext cx="238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695240" y="1946160"/>
              <a:ext cx="390600" cy="590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8000" y="1841400"/>
              <a:ext cx="752400" cy="5810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6440" y="1707840"/>
              <a:ext cx="819000" cy="76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76520" y="2727000"/>
              <a:ext cx="704880" cy="505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67160" y="1946160"/>
              <a:ext cx="828360" cy="1285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81400" y="2269800"/>
              <a:ext cx="257040" cy="96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714920" y="2860560"/>
              <a:ext cx="838080" cy="361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00000" y="1323720"/>
              <a:ext cx="852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Times New Roman"/>
                </a:rPr>
                <a:t>RESEAU 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00320" y="3670200"/>
              <a:ext cx="762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Times New Roman"/>
                </a:rPr>
                <a:t>RESEAU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52760" y="1527120"/>
              <a:ext cx="247680" cy="172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32280" y="1677600"/>
              <a:ext cx="512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hôpit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59000" y="31104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rojet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NOSIS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:  autonomie et inter-opér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32800" y="2016000"/>
            <a:ext cx="13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tonom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6440" y="5052960"/>
            <a:ext cx="193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er-opérabil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0863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Références uti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92000" y="1511280"/>
            <a:ext cx="7902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apports 1998 et 1999 du Conseil Supérieur des Systèmes d'Information de Santé (CS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sante.gouv.fr/htm/dossiers/index_cssis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ORMMEL. "Enquête sur l'apport de l'informatique dans la pratique médicale". CRED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credes.fr/formmel/ResultatOctobre2000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NAES. "Principes d'évaluation des réseaux de santé.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anaes.f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'annuaire des réseaux de soins sur le site Medco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medcost.fr/reseaux/moteur/index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ordination Nationale des Rése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cnr.asso.f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mptes rendus du Groupe de Travail n° 11 d'EdiSanté "Echanges d'éléments de dossiers médicaux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edisante.org/groupes/gt11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-norme ENV 13606 du CEN-TC 2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ttp://www.centc251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t autres liens intéressants :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 www.esanteactu.com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www.amgitweb.com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Qui sont les acteurs d ’un réseau 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 personnes physiqu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édecins libéraux, salariés, paramédicaux, travailleurs sociaux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 personnes moral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tablissements de santé publics ou privés, institutions sociales ou médico-sociales, associations d ’usagers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Quelles sont les activités couvertes 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75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orité aux activités importantes en terme de santé publique et/ou ayant un impact financier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thologies lourdes et chroniques :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ncer, diabète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pulations ciblées :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oxicomanes, VIH, personnes âgées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tivités hospitalières spécialisées :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rgence, dialyse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320" y="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Times New Roman"/>
              </a:rPr>
              <a:t>Diapositive empruntée à P. Larc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Ordonnances d'avril 199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éseau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illeure orientation du patient, donc meilleure réponse à ses beso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se en charge de proximité plus ais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mélioration de la continuité et de la coordination des so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îtrise de l’évolution des dépenses de san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320" y="745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Times New Roman"/>
              </a:rPr>
              <a:t>Diapositive empruntée à P. Larc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ARTOG~4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4852800" cy="3298680"/>
          </a:xfrm>
          <a:prstGeom prst="rect">
            <a:avLst/>
          </a:prstGeom>
          <a:ln w="0">
            <a:noFill/>
          </a:ln>
        </p:spPr>
      </p:pic>
      <p:pic>
        <p:nvPicPr>
          <p:cNvPr id="59" name="CARTOG~3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800600" cy="3270240"/>
          </a:xfrm>
          <a:prstGeom prst="rect">
            <a:avLst/>
          </a:prstGeom>
          <a:ln w="0">
            <a:noFill/>
          </a:ln>
        </p:spPr>
      </p:pic>
      <p:pic>
        <p:nvPicPr>
          <p:cNvPr id="60" name="CARTOG~2" descr=""/>
          <p:cNvPicPr/>
          <p:nvPr/>
        </p:nvPicPr>
        <p:blipFill>
          <a:blip r:embed="rId3"/>
          <a:stretch/>
        </p:blipFill>
        <p:spPr>
          <a:xfrm>
            <a:off x="4038480" y="1295280"/>
            <a:ext cx="4853160" cy="329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800" y="5335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jourd’hui, en PA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9640" y="5181480"/>
            <a:ext cx="24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rtographie des rése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ur le site du minist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3 grands types de réseau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seaux essentiellement inter hospita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utorité de tutelle compétente : Directeur Régional de l’Hospita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’appuie sur les médecins inspecteurs des DRASS, DDASS et du CRO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seaux ville-hôpital et ville-v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xpérimentation tarifaire dérogeant à la rég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ur l’établissement de santé : accord de l’A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ur les PS libéraux : avis de l’UR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uis transmission à la commission SOUBIE (Conseil d’Orientation des Réseaux et Filières de Soins Expérimentau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ans expérimentation tarifa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ur l’établissement de santé : accord de l’A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ur les PS libéraux : avis éventuel des CPAM ou des C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nard giusiano</cp:lastModifiedBy>
  <dcterms:modified xsi:type="dcterms:W3CDTF">2001-01-22T23:34:02Z</dcterms:modified>
  <cp:revision>66</cp:revision>
  <dc:subject/>
  <dc:title>Aucun titre de diapositive</dc:title>
</cp:coreProperties>
</file>